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6249-1DFB-4003-A7AE-1AAE6BF201A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ressure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d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oment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-  In so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force is applied over a smaller surface area you get a larger press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can be calculated using the following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cals or N/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ressure -  In solid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f a force is applied over a smaller surface area you get a larger pressure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ressure can be calculated using the following equation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ewton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scals or N/m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- In liqu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hydraulics systems work because the pressure is the same throughout the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ressure - In liquids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hydraulics systems work because the pressure is the same throughout the system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ments make things turn or rotate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used by forces but are not forces themsel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ment will be bigger if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ce causing the turning effect is big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ce is further from the piv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oments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oments make things turn or rotate. 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y are caused by forces but are not forces themselves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 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moment will be bigger if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force causing the turning effect is bigger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force is further from the pivot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ing the size of a moment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ment = Force x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alculating the size of a moment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oment = Force x Distanc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ewton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-clockwise Moment = Clockwise Mo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moment is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ti-clockwise Moment = Clockwise Momen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ALANC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et moment is zero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2B7F-5855-4977-AD12-7921B9CAD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9120-FC70-4A76-9057-379737D4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763E-BDD8-4EAC-85D1-853B1D03D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C3B2-59C4-4076-A97F-CD8C82765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DD9C-90EB-4D68-A8BB-9FBAC2F61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0F9E-A54D-403A-BC1D-4D192DCB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B597-0DC0-4307-A093-04602D79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7C57-4781-4FA7-A65E-4FF32DD3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1C1B-D638-4E63-8040-E786ADDC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BACB-8E72-420E-A681-D6CDFA51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33C5-0FE7-431D-98EC-58003E5E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1ED6-D4BA-45D6-A09A-8F0A2359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8808-ADB7-4A39-95F8-F2C78B92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72C0-932E-489E-B7E0-AF9C396B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6ECB-6CEE-496F-B6F2-483888AF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AB29-E5B4-4612-A132-2B56C122C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605D-3B89-4F4F-80CA-5125C45B2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5DEC-E762-4759-BBD0-5D00CDB8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4AD4-F42D-4B92-98AB-455B1183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1384-50FE-438A-B99A-B797387A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BDEB-543F-4000-9A59-398F2BC5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D620-3ABF-4806-924B-FCC4752F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2B43-0782-4A7D-B3D9-90FEF655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B32E-5434-4CCE-BC46-527DF158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782B-0CAE-46D5-81A7-90DB98B4DF7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DA6F-A8AE-4856-9624-97D9E67AD254}" type="slidenum">
              <a:rPr b="0" lang="en-GB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37"/>
          <p:cNvSpPr/>
          <p:nvPr/>
        </p:nvSpPr>
        <p:spPr>
          <a:xfrm>
            <a:off x="179280" y="189000"/>
            <a:ext cx="4392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Pressure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    </a:t>
            </a: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and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Mo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http://www.s-cool.co.uk/g-/phy-/forces-/g-phy-forces-rs_files/image002.gif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971640" y="3068640"/>
            <a:ext cx="4589280" cy="14256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sp>
        <p:nvSpPr>
          <p:cNvPr id="359" name="Rectangle 5"/>
          <p:cNvSpPr/>
          <p:nvPr/>
        </p:nvSpPr>
        <p:spPr>
          <a:xfrm>
            <a:off x="900000" y="473400"/>
            <a:ext cx="51944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0000"/>
                </a:solidFill>
                <a:uFillTx/>
                <a:latin typeface="Verdana"/>
                <a:ea typeface="Times New Roman"/>
              </a:rPr>
              <a:t>Pressure </a:t>
            </a:r>
            <a:r>
              <a:rPr b="1" lang="en-GB" sz="3200" spc="-1" strike="noStrike">
                <a:solidFill>
                  <a:srgbClr val="ff0000"/>
                </a:solidFill>
                <a:latin typeface="Verdana"/>
                <a:ea typeface="Times New Roman"/>
              </a:rPr>
              <a:t>- 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n solid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Verdana"/>
                <a:ea typeface="Times New Roman"/>
              </a:rPr>
              <a:t>If a force is applied over a smaller surface area you get a larger pressur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Pressure can be calculated using the following equation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5580000" y="3141720"/>
            <a:ext cx="1079640" cy="57780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144360 h 577800"/>
              <a:gd name="textAreaBottom" fmla="*/ 433440 h 577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7021800" y="3068640"/>
            <a:ext cx="1450080" cy="825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wton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AutoShape 8"/>
          <p:cNvSpPr/>
          <p:nvPr/>
        </p:nvSpPr>
        <p:spPr>
          <a:xfrm rot="5400000">
            <a:off x="4249440" y="4687920"/>
            <a:ext cx="1079640" cy="57780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144360 h 577800"/>
              <a:gd name="textAreaBottom" fmla="*/ 433440 h 577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AutoShape 9"/>
          <p:cNvSpPr/>
          <p:nvPr/>
        </p:nvSpPr>
        <p:spPr>
          <a:xfrm rot="7363800">
            <a:off x="312840" y="4600800"/>
            <a:ext cx="2303280" cy="925200"/>
          </a:xfrm>
          <a:custGeom>
            <a:avLst/>
            <a:gdLst>
              <a:gd name="textAreaLeft" fmla="*/ 359640 w 2303280"/>
              <a:gd name="textAreaRight" fmla="*/ 2015640 w 2303280"/>
              <a:gd name="textAreaTop" fmla="*/ 231120 h 925200"/>
              <a:gd name="textAreaBottom" fmla="*/ 694080 h 925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Rectangle 10"/>
          <p:cNvSpPr/>
          <p:nvPr/>
        </p:nvSpPr>
        <p:spPr>
          <a:xfrm>
            <a:off x="259560" y="6165720"/>
            <a:ext cx="246528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scals or N/m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Rectangle 11"/>
          <p:cNvSpPr/>
          <p:nvPr/>
        </p:nvSpPr>
        <p:spPr>
          <a:xfrm>
            <a:off x="4509000" y="5805360"/>
            <a:ext cx="55116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-1260360" y="1628640"/>
          <a:ext cx="9504360" cy="2670480"/>
        </p:xfrm>
        <a:graphic>
          <a:graphicData uri="http://schemas.openxmlformats.org/drawingml/2006/table">
            <a:tbl>
              <a:tblPr/>
              <a:tblGrid>
                <a:gridCol w="1346040"/>
                <a:gridCol w="8158320"/>
              </a:tblGrid>
              <a:tr h="100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884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Pressure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cc00"/>
                          </a:solidFill>
                          <a:latin typeface="Verdana"/>
                          <a:ea typeface="Times New Roman"/>
                        </a:rPr>
                        <a:t>increases     with depth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884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Pressure acts</a:t>
                      </a:r>
                      <a:r>
                        <a:rPr b="1" lang="en-GB" sz="2400" spc="-1" strike="noStrike">
                          <a:solidFill>
                            <a:srgbClr val="808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cc00"/>
                          </a:solidFill>
                          <a:latin typeface="Verdana"/>
                          <a:ea typeface="Times New Roman"/>
                        </a:rPr>
                        <a:t>equally in all directions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884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Pressure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cc00"/>
                          </a:solidFill>
                          <a:latin typeface="Verdana"/>
                          <a:ea typeface="Times New Roman"/>
                        </a:rPr>
                        <a:t>is transmitted through liquids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-360" y="69228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 Black"/>
              </a:rPr>
              <a:t>Pressure</a:t>
            </a:r>
            <a:r>
              <a:rPr b="1" lang="en-GB" sz="3200" spc="-1" strike="noStrike">
                <a:solidFill>
                  <a:srgbClr val="ff0000"/>
                </a:solidFill>
                <a:latin typeface="Arial Black"/>
              </a:rPr>
              <a:t> - In liquids</a:t>
            </a:r>
            <a:r>
              <a:rPr b="1" lang="en-GB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AutoShape 19"/>
          <p:cNvSpPr/>
          <p:nvPr/>
        </p:nvSpPr>
        <p:spPr>
          <a:xfrm>
            <a:off x="3780000" y="1844640"/>
            <a:ext cx="504720" cy="4320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AutoShape 20"/>
          <p:cNvSpPr/>
          <p:nvPr/>
        </p:nvSpPr>
        <p:spPr>
          <a:xfrm>
            <a:off x="6227640" y="1916280"/>
            <a:ext cx="486000" cy="502920"/>
          </a:xfrm>
          <a:prstGeom prst="downArrow">
            <a:avLst>
              <a:gd name="adj1" fmla="val 50000"/>
              <a:gd name="adj2" fmla="val 25870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AutoShape 21"/>
          <p:cNvSpPr/>
          <p:nvPr/>
        </p:nvSpPr>
        <p:spPr>
          <a:xfrm>
            <a:off x="7164360" y="2492280"/>
            <a:ext cx="1224000" cy="1079640"/>
          </a:xfrm>
          <a:custGeom>
            <a:avLst/>
            <a:gdLst>
              <a:gd name="textAreaLeft" fmla="*/ 122400 w 1224000"/>
              <a:gd name="textAreaRight" fmla="*/ 1101600 w 1224000"/>
              <a:gd name="textAreaTop" fmla="*/ 432000 h 1079640"/>
              <a:gd name="textAreaBottom" fmla="*/ 648000 h 10796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Picture 22" descr="brake hydraulic"/>
          <p:cNvPicPr/>
          <p:nvPr/>
        </p:nvPicPr>
        <p:blipFill>
          <a:blip r:embed="rId4"/>
          <a:stretch/>
        </p:blipFill>
        <p:spPr>
          <a:xfrm>
            <a:off x="900000" y="4653000"/>
            <a:ext cx="3384720" cy="172872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23"/>
          <p:cNvSpPr/>
          <p:nvPr/>
        </p:nvSpPr>
        <p:spPr>
          <a:xfrm flipV="1" rot="10800000">
            <a:off x="4640400" y="4648680"/>
            <a:ext cx="41796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l hydraulics systems work because the pressure is the same throughout the system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5"/>
          <p:cNvSpPr/>
          <p:nvPr/>
        </p:nvSpPr>
        <p:spPr>
          <a:xfrm>
            <a:off x="-181080" y="-490680"/>
            <a:ext cx="9325080" cy="53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 Black"/>
              </a:rPr>
              <a:t>Moments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Moments make things turn or rotate. </a:t>
            </a: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8b17"/>
                </a:solidFill>
                <a:latin typeface="Arial"/>
              </a:rPr>
              <a:t>They ar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aused</a:t>
            </a:r>
            <a:r>
              <a:rPr b="1" lang="en-GB" sz="2800" spc="-1" strike="noStrike">
                <a:solidFill>
                  <a:srgbClr val="ff8b17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8b17"/>
                </a:solidFill>
                <a:latin typeface="Arial"/>
              </a:rPr>
              <a:t>by forces but ar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GB" sz="2400" spc="-1" strike="noStrike">
                <a:solidFill>
                  <a:srgbClr val="ff8b17"/>
                </a:solidFill>
                <a:latin typeface="Arial"/>
              </a:rPr>
              <a:t> forces themselve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8b17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539640" y="4149720"/>
            <a:ext cx="8136000" cy="247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The moment will be bigger if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en-GB" sz="2400" spc="-1" strike="noStrike">
                <a:solidFill>
                  <a:srgbClr val="ff3399"/>
                </a:solidFill>
                <a:latin typeface="Arial Black"/>
              </a:rPr>
              <a:t>The force causing the turning effect is bigger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99"/>
                </a:solidFill>
                <a:latin typeface="Arial Black"/>
              </a:rPr>
              <a:t>   </a:t>
            </a:r>
            <a:r>
              <a:rPr b="1" lang="en-GB" sz="2400" spc="-1" strike="noStrike">
                <a:solidFill>
                  <a:srgbClr val="ff3399"/>
                </a:solidFill>
                <a:latin typeface="Arial Black"/>
              </a:rPr>
              <a:t>The force is further from the pivot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51102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 Black"/>
              </a:rPr>
              <a:t>Calculating the size of a moment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468360" y="3284640"/>
            <a:ext cx="633708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 Black"/>
              </a:rPr>
              <a:t>Moment = Force x Dista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987640" y="5445000"/>
            <a:ext cx="295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ewt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7093080" y="5516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Line 8"/>
          <p:cNvSpPr/>
          <p:nvPr/>
        </p:nvSpPr>
        <p:spPr>
          <a:xfrm flipH="1" flipV="1">
            <a:off x="6372360" y="4149360"/>
            <a:ext cx="720720" cy="1009800"/>
          </a:xfrm>
          <a:prstGeom prst="line">
            <a:avLst/>
          </a:prstGeom>
          <a:ln w="76320">
            <a:solidFill>
              <a:srgbClr val="ff8b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Text Box 9"/>
          <p:cNvSpPr/>
          <p:nvPr/>
        </p:nvSpPr>
        <p:spPr>
          <a:xfrm>
            <a:off x="250920" y="5950080"/>
            <a:ext cx="1800000" cy="15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Black"/>
              </a:rPr>
              <a:t>Nm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Line 10"/>
          <p:cNvSpPr/>
          <p:nvPr/>
        </p:nvSpPr>
        <p:spPr>
          <a:xfrm flipV="1">
            <a:off x="971640" y="4149360"/>
            <a:ext cx="145800" cy="1152360"/>
          </a:xfrm>
          <a:prstGeom prst="line">
            <a:avLst/>
          </a:prstGeom>
          <a:ln w="76320">
            <a:solidFill>
              <a:srgbClr val="ff8b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Line 11"/>
          <p:cNvSpPr/>
          <p:nvPr/>
        </p:nvSpPr>
        <p:spPr>
          <a:xfrm flipH="1" flipV="1">
            <a:off x="3708000" y="4149360"/>
            <a:ext cx="144360" cy="1081080"/>
          </a:xfrm>
          <a:prstGeom prst="line">
            <a:avLst/>
          </a:prstGeom>
          <a:ln w="76320">
            <a:solidFill>
              <a:srgbClr val="ff8b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4" descr="sci_dia_90"/>
          <p:cNvPicPr/>
          <p:nvPr/>
        </p:nvPicPr>
        <p:blipFill>
          <a:blip r:embed="rId1"/>
          <a:stretch/>
        </p:blipFill>
        <p:spPr>
          <a:xfrm>
            <a:off x="179280" y="2276640"/>
            <a:ext cx="8569440" cy="341604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5"/>
          <p:cNvSpPr/>
          <p:nvPr/>
        </p:nvSpPr>
        <p:spPr>
          <a:xfrm>
            <a:off x="0" y="5950080"/>
            <a:ext cx="93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 Black"/>
              </a:rPr>
              <a:t>Anti-clockwise Moment = Clockwise Momen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684360" y="836640"/>
            <a:ext cx="4679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e103"/>
                </a:solidFill>
                <a:latin typeface="Arial Black"/>
              </a:rPr>
              <a:t>BALANC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e103"/>
                </a:solidFill>
                <a:latin typeface="Arial Black"/>
              </a:rPr>
              <a:t>Net moment is zer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12:46:28Z</dcterms:created>
  <dc:creator>HP Authorized Customer</dc:creator>
  <dc:description/>
  <dc:language>en-US</dc:language>
  <cp:lastModifiedBy>RomaK</cp:lastModifiedBy>
  <dcterms:modified xsi:type="dcterms:W3CDTF">2015-09-03T12:35:53Z</dcterms:modified>
  <cp:revision>13</cp:revision>
  <dc:subject/>
  <dc:title>Slide 1</dc:title>
</cp:coreProperties>
</file>